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D08-80A8-466F-975C-A9A07165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7E6-0F5D-42B8-8C8B-BDE6B268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A93-6FA2-4A3E-B17C-F9A45975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946-CFD5-4254-90EA-B6319495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BD2D-DF48-4109-960A-52012D50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AD60-F2A1-4E6F-872D-7913725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6B4F-2EB5-4EA5-B72C-C9EC508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8504-7EA2-426D-B7E8-52193D7F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5E72-51FD-476A-ADCC-A593B09B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943-8306-4F6C-B790-495E05BB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D645-4989-4C2B-9AD8-64A7362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979-10E7-4710-BABD-08C40041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01DD-66C2-4BFF-9FE0-AE7D67D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E5C8-D13E-4EFB-A295-BFAE50D6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B41D-49BD-4973-9296-0BE0F074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27A-E65B-4999-AF05-27473B4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546-0D5E-4EC1-B375-31CCBA15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3D9-C7A3-4EE6-AFE4-50433CD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69C-22D8-44CF-B5B0-0287130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3EC-762A-451A-860E-0E5681A9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814-7FDB-45E0-B3F7-4B482A50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9D1-3990-41DE-928B-BC5CB46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25B-A5E9-45B6-9BB9-28D5299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C28-BDED-4EE4-91C0-97F8F5B4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B8DC-E03F-4DDA-A889-E570296FEF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B61-8B6B-499C-9B0F-84D769BF9BF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тематические представления, понятия, отношения, закономер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уппы раннего возра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4 этап освоения количе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ного-мал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больших и малых групп предметов и называние их количества словами много-мал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, предлагает поставить на стол зайчиков и сказать, сколько их. Затем он просит показать каждого зайчика: «Вот, вот, вот, вот… Вот сколько! Много»!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еличина и фор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 и называние больших и маленьких предметов (большой и маленький мячи, большие и маленькие лопатки и т.п.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ное использование игрушек, имеющих выраженную форму сенсорных эталонов (геометрические), называни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лечение внимания детей к размерам предметов (игрушек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 опыта различения предметов контрастных размер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ОЛИЧЕ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ирать из трех-пяти колец одноцветные, затем разноцветные пирамидк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низывать на штативы шари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калывать кольц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тавлять пирамидки в порядке убывания (возрастания) их велич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лять разные по цвету башенки из трех и более последовательно уменьшающихся детале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бирать и собирать игрушки-вкладыши, выкладывать из строительного материала длинные и короткие дорож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етодика ознакомления с количеств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ссматривание (что это?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ыделение признаков предмета (какое, какие?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ведение нового признака – количества (сколько их?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бразование группы предметов осуществляется прибавлением  предметов к предмету по одном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мментарии действия: «Вот кубик, вот еще кубик, и еще кубик» и т.д. Затем, указывая на кубики, предлагает каждому ребенку: «Покажи кубики. Покажи все кубики.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влечение внимания детей к количеству кубиков: «Вот сколько кубиков! Много кубиков!» и снова спрашивает: «Сколько кубиков?». Ответы детей подтверждает словами: «Да, кубиков много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гровые комбинации совершаются с разнообразными игрушками, но на первом этапе группы предметов должны быть однородны (одинакового вида, цвета, величины, формы, материала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-й этап знакомства с количеств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группы из предметов, объединенных каким-либо признаком, фиксируя внимание на характерном признаке. Например, флажки синего и красного цвета. При сравнении количества указывают: «Красных флажков много и синих флажков мног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 этап ознакомления с количеств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дение новых игровых заданий на сравнение группы предметов с одним предметом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ного – од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, воспитатель инсценирует приход матрешек в гости к детям, акцентирует их внимание на их количест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20:47Z</dcterms:created>
  <dc:creator>raven</dc:creator>
  <dc:description/>
  <dc:language>en-US</dc:language>
  <cp:lastModifiedBy>Собко</cp:lastModifiedBy>
  <dcterms:modified xsi:type="dcterms:W3CDTF">2010-11-29T03:44:28Z</dcterms:modified>
  <cp:revision>3</cp:revision>
  <dc:subject/>
  <dc:title>математические представления, понятия, отношения, закономерности</dc:title>
</cp:coreProperties>
</file>